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61ED-1284-4006-A0A0-645E14224D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1908-B20F-4E21-8882-AED6BFDC14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E76D-4EA1-41AA-BB86-3D16DC1CC02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E9FA-AD25-42BC-82D4-41E002F55AB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A5ED-DDAB-45A6-A0BD-405B806A308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89E6-5516-4D0A-A01A-D77CBBAD76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FD1D-EAD7-4ED2-A597-C3EAB085BF9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CFC8-47FD-4390-B75E-8C4C7A0C09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B5F8-487B-4D5A-A9D2-634364536B8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ED56-F250-4370-8F4D-0F9C9A42038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F87B-05C5-479E-A7E2-1C79D56679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07DF-8650-43D8-893A-5D263331708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5396-7FBE-46A1-8B71-2693D314C52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21F7-82A6-461D-AF49-52CA631AC8D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DD9-FECE-434F-9DDA-C60EB864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A6F-E5F5-4884-B393-1059A427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3E6-1DAA-4B0B-81B2-59AF9545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5DD-EC8F-4B06-80E9-CDF12351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A116-1D52-4A8B-9E27-3E191E97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3220-6C28-4C19-8814-28BBD7FB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477A-1C33-4E98-A42D-B367317C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5329-07AD-439C-ACCB-3BFEF33A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CF0B-3A73-43D8-A675-16C95018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B474-11F6-4B56-9775-0A92AA5D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8B4D-DBFE-4555-AD22-B065EF7C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1C2-5B51-40EE-9015-D0B734C2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574B-1045-4B61-B621-9512198D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0571-D868-4501-9601-41BAB402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514B-55A3-4330-99A8-4818BA58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B429-33F3-49E2-BE57-5906AC2A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D597-80F4-4B98-A5A6-EAABB75D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21D9-B137-45D6-870E-FE48BEB9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B91BE-A93B-4550-B494-A0E28D48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0E72B-C5FF-406B-8680-51764DE9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74E34-09DC-486C-BD6C-204E8839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D0CA0-08AE-41A2-86A0-F051F4B6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C81-13DC-441F-8F2F-B1FB190E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8102B-4F72-4768-952E-7626CC98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6DCA0-1E8B-493A-B2C5-B3D57772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8A773-6A5D-4133-A33C-B5F2B22C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7E6FF-A479-4F66-853F-A5CEECA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A8680-4BD3-4149-810F-AAA9BFD3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9065A-2660-4EDC-82B6-F60C1F8C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ED2ED-A839-4C9C-848E-2FF6CFAB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17110-D21C-4A48-BFBE-578EB460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56DEA-FBF7-428C-93A1-D3A48419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4E374-23BE-4063-8197-1202FA3C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DC13-86F2-411D-9D38-2EC50129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4871E-3AE0-41EB-A67B-B6449DFB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A679A-9470-485E-B72B-504950DC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A4CF-6BE1-4C63-BF20-BC680007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9B257-8A69-43C0-A507-21723710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7CB9D-4BFA-46A9-900C-2B241326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F15CF-C160-4EB3-AF07-414BA8C6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BE5E6-D574-4179-B6BA-398B2FA8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0E83-1694-433E-80D5-79A12B84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B00A6-CC61-4205-9CE1-2464B345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97BFD-BF6E-4E26-A30C-4FEE96DF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719-8CF3-4DA2-9825-2678E265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9E48D-D4BC-4381-8E3D-776A3630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8AD32-107D-44E8-B41B-07D3385E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4D639-E799-4BAC-9611-C17ABDC6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427BE-A1AA-4CF8-8D30-2E12769C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42D29-ACED-453A-82CF-2E840D65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2A525-4735-439F-9E43-EF83B089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DC6EC-F540-443B-BB6D-E2C936B0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FF72D-9DBC-4C21-92E2-BDB06255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B282D-9FEF-4756-9C65-679AFB84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5E86D-1C40-4B5B-B735-34BD1D1E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86E-79F6-44E2-A3C4-E88B3927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24BE2-B7EB-4216-A4EB-A95BE0DF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9A5DD-67EE-4C4B-AFA3-F5F8A3B0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CBD9A-1B0D-4AB5-A1AD-CE899CEF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A0BA3-C604-43E0-8022-0FD59AE0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AB886-ED56-4882-8C62-8E197ABC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217AE-5574-4E33-A6CF-10824C14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25A1B-564B-46FB-96BB-69A9DFEF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3F20E-BD8C-4DD3-8FE5-0FBE424A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F54C8-81B2-46AE-95E1-00EA8823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48582-D3EC-4754-A995-02515AE3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9EA-CD2F-445A-A80C-6B789E92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AC612-EFDD-4834-9987-3A415DD8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5AF3F-B966-422E-BCE8-7C762E76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46C34-49E1-4DBC-9046-C1C604A4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EC4D1-3BD3-45D2-8E31-2170FEA5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4DA7F-2CA6-4407-832A-5C871078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D219D-CE87-49FE-88F8-3191160A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208A0-9D30-4BF2-8DE2-FC8BFC94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86775-A3D1-4166-8ED4-75D8FBAD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0A78F-9B7B-4BB6-A49C-C73171B5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AACDE-32F6-409E-8F70-90395B39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18D-BDEB-4011-92E3-6B0E6434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41740-BE10-48A2-BB46-57ADAAF5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20FAF-577A-43B9-AD71-A695625A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3D6F6-AE62-4B21-8027-0B236918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E8741-37DB-41D1-92E2-B88445E0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DD071-3CCF-4AFF-98DE-E5866C37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179-8627-46F3-9E92-08F18A5A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D754-8D54-4882-A737-0D2FBABDAFF0}" type="slidenum">
              <a:rPr b="0" lang="en-US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5F15-2998-4717-8712-B9ADB8084C49}" type="slidenum">
              <a:rPr b="0" lang="en-US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6445-2287-456F-B6F9-37D84A74EF01}" type="slidenum">
              <a:rPr b="0" lang="en-US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1E69-12EF-44E0-8401-6BBA44786222}" type="slidenum">
              <a:rPr b="0" lang="en-US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D160-5007-404B-9E32-1234426CF676}" type="slidenum">
              <a:rPr b="0" lang="en-US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7E43-10BB-4A04-B4D4-93D909EE8D5D}" type="slidenum">
              <a:rPr b="0" lang="en-US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276A-A7CD-4FD2-80CB-80111F2AC5F0}" type="slidenum">
              <a:rPr b="0" lang="en-US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stronomy.ru/forum/index.php?topic=1237.0" TargetMode="External"/><Relationship Id="rId2" Type="http://schemas.openxmlformats.org/officeDocument/2006/relationships/hyperlink" Target="http://www.astronomy.ru/forum/index.php?topic=1237.0" TargetMode="External"/><Relationship Id="rId3" Type="http://schemas.openxmlformats.org/officeDocument/2006/relationships/hyperlink" Target="http://www.astronomy.ru/forum/index.php?topic=1237.0" TargetMode="External"/><Relationship Id="rId4" Type="http://schemas.openxmlformats.org/officeDocument/2006/relationships/hyperlink" Target="http://www.astronomy.ru/forum/index.php?topic=1237.0" TargetMode="External"/><Relationship Id="rId5" Type="http://schemas.openxmlformats.org/officeDocument/2006/relationships/hyperlink" Target="http://www.astronomy.ru/forum/index.php?topic=1237.0" TargetMode="External"/><Relationship Id="rId6" Type="http://schemas.openxmlformats.org/officeDocument/2006/relationships/hyperlink" Target="http://www.astronomy.ru/forum/index.php?topic=1237.0" TargetMode="External"/><Relationship Id="rId7" Type="http://schemas.openxmlformats.org/officeDocument/2006/relationships/hyperlink" Target="http://universe-online.narod.ru/origin.html" TargetMode="External"/><Relationship Id="rId8" Type="http://schemas.openxmlformats.org/officeDocument/2006/relationships/hyperlink" Target="http://universe-online.narod.ru/origin.html" TargetMode="External"/><Relationship Id="rId9" Type="http://schemas.openxmlformats.org/officeDocument/2006/relationships/hyperlink" Target="http://universe-online.narod.ru/origin.html" TargetMode="External"/><Relationship Id="rId10" Type="http://schemas.openxmlformats.org/officeDocument/2006/relationships/hyperlink" Target="http://universe-online.narod.ru/origin.html" TargetMode="External"/><Relationship Id="rId11" Type="http://schemas.openxmlformats.org/officeDocument/2006/relationships/hyperlink" Target="http://universe-online.narod.ru/origin.html" TargetMode="External"/><Relationship Id="rId12" Type="http://schemas.openxmlformats.org/officeDocument/2006/relationships/hyperlink" Target="http://www.bestreferat.ru/referat-38752.html" TargetMode="External"/><Relationship Id="rId13" Type="http://schemas.openxmlformats.org/officeDocument/2006/relationships/hyperlink" Target="http://www.bestreferat.ru/referat-38752.html" TargetMode="External"/><Relationship Id="rId14" Type="http://schemas.openxmlformats.org/officeDocument/2006/relationships/hyperlink" Target="http://www.bestreferat.ru/referat-38752.html" TargetMode="External"/><Relationship Id="rId15" Type="http://schemas.openxmlformats.org/officeDocument/2006/relationships/hyperlink" Target="http://www.bestreferat.ru/referat-38752.html" TargetMode="Externa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396720" y="1163520"/>
            <a:ext cx="9071280" cy="3835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3499920" y="4642920"/>
            <a:ext cx="5115240" cy="11019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bb8b"/>
                </a:solidFill>
                <a:latin typeface="Corbel"/>
              </a:rPr>
              <a:t>Горчакова Татьяна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bb8b"/>
                </a:solidFill>
                <a:latin typeface="Corbel"/>
              </a:rPr>
              <a:t>11 «А» класс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33"/>
                </a:solidFill>
                <a:latin typeface="Consolas"/>
              </a:rPr>
              <a:t>Вывод:</a:t>
            </a:r>
            <a:endParaRPr b="0" lang="en-US" sz="6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ffff00"/>
                </a:solidFill>
                <a:latin typeface="Corbel"/>
              </a:rPr>
              <a:t>Изучив тему «Происхождение Вселенной» я узнала, что такое Вселенная и из чего она состоит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;</a:t>
            </a:r>
            <a:r>
              <a:rPr b="0" lang="ru-RU" sz="3000" spc="-1" strike="noStrike">
                <a:solidFill>
                  <a:srgbClr val="ffff00"/>
                </a:solidFill>
                <a:latin typeface="Corbel"/>
              </a:rPr>
              <a:t> Изучила разные теории её происхождения, но сама придерживаюсь теории Большого взрыва, т. к. она наиболее вероятней, чем все остальные теории. Нашей вселенной около 13 млрд. лет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Consolas"/>
              </a:rPr>
              <a:t>Литература:</a:t>
            </a:r>
            <a:endParaRPr b="0" lang="en-US" sz="6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www.astronomy.ru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5"/>
              </a:rPr>
              <a:t>forum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6"/>
              </a:rPr>
              <a:t>/index.php?topic=1237.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9"/>
              </a:rPr>
              <a:t>universe-online.narod.ru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11"/>
              </a:rPr>
              <a:t>origin.htm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14"/>
              </a:rPr>
              <a:t>www.bestreferat.ru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Arial"/>
                <a:hlinkClick r:id="rId15"/>
              </a:rPr>
              <a:t>/referat-38752.htm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nsolas"/>
              </a:rPr>
              <a:t>Цель:</a:t>
            </a:r>
            <a:endParaRPr b="0" lang="en-US" sz="44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85880" y="121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99880" indent="-24984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Изучить различные теории происхождения Вселенной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rbel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- Узнать, что такое Вселенная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- Рассмотреть строение Вселенной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- Выяснить возраст Вселенной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- Рассмотреть теории происхождения Вселенной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rbe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Consolas"/>
              </a:rPr>
              <a:t>Вселенная – это</a:t>
            </a:r>
            <a:endParaRPr b="0" lang="en-US" sz="54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380" name="Picture 2" descr="C:\Users\User\Desktop\Галактики   (инф)\картинки галактик\Картинки Планет\Вселенная.jpg"/>
          <p:cNvPicPr/>
          <p:nvPr/>
        </p:nvPicPr>
        <p:blipFill>
          <a:blip r:embed="rId1"/>
          <a:stretch/>
        </p:blipFill>
        <p:spPr>
          <a:xfrm>
            <a:off x="357120" y="1357200"/>
            <a:ext cx="8786880" cy="55008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857160" y="1785960"/>
            <a:ext cx="77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nsolas"/>
              </a:rPr>
              <a:t>Строение </a:t>
            </a:r>
            <a:r>
              <a:rPr b="0" lang="en-US" sz="4400" spc="-1" strike="noStrike">
                <a:solidFill>
                  <a:srgbClr val="ff0066"/>
                </a:solidFill>
                <a:latin typeface="Consolas"/>
              </a:rPr>
              <a:t>Вселенной</a:t>
            </a:r>
            <a:endParaRPr b="0" lang="en-US" sz="44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orbel"/>
              </a:rPr>
              <a:t>Вселенная представляет собой расширяющееся пространство, заполненное губкообразной клочковатой структурой. Стенки этой </a:t>
            </a:r>
            <a:r>
              <a:rPr b="0" lang="ru-RU" sz="2800" spc="-1" strike="noStrike">
                <a:solidFill>
                  <a:srgbClr val="00b0f0"/>
                </a:solidFill>
                <a:latin typeface="Corbel"/>
              </a:rPr>
              <a:t>губчатой</a:t>
            </a:r>
            <a:r>
              <a:rPr b="0" lang="ru-RU" sz="3200" spc="-1" strike="noStrike">
                <a:solidFill>
                  <a:srgbClr val="00b0f0"/>
                </a:solidFill>
                <a:latin typeface="Corbel"/>
              </a:rPr>
              <a:t> структуры – скопления млрд. звёздных галактик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orbel"/>
              </a:rPr>
              <a:t>Галактики состоят из сотен млрд. звёзд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orbel"/>
              </a:rPr>
              <a:t>Звёзды в основном состоят из водорода.</a:t>
            </a:r>
            <a:r>
              <a:rPr b="0" lang="ru-RU" sz="3000" spc="-1" strike="noStrike">
                <a:solidFill>
                  <a:srgbClr val="00b0f0"/>
                </a:solidFill>
                <a:latin typeface="Corbe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onsolas"/>
              </a:rPr>
              <a:t>Возраст Вселенной</a:t>
            </a:r>
            <a:endParaRPr b="0" lang="en-US" sz="6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b8b"/>
                </a:solidFill>
                <a:latin typeface="Corbel"/>
              </a:rPr>
              <a:t> </a:t>
            </a:r>
            <a:r>
              <a:rPr b="0" lang="en-US" sz="3600" spc="-1" strike="noStrike">
                <a:solidFill>
                  <a:srgbClr val="fcbb8b"/>
                </a:solidFill>
                <a:latin typeface="Corbel"/>
              </a:rPr>
              <a:t>- По библейским источникам, период времени от сотворения мира Богом до Рождества Христова насчитывал от 3483 до 6984 лет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b8b"/>
                </a:solidFill>
                <a:latin typeface="Corbel"/>
              </a:rPr>
              <a:t> </a:t>
            </a:r>
            <a:r>
              <a:rPr b="0" lang="en-US" sz="3600" spc="-1" strike="noStrike">
                <a:solidFill>
                  <a:srgbClr val="fcbb8b"/>
                </a:solidFill>
                <a:latin typeface="Corbel"/>
              </a:rPr>
              <a:t>- По теории Большого взрыва Вселенной около 13 млрд. лет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nsolas"/>
              </a:rPr>
              <a:t>Теории происхождения Вселенной</a:t>
            </a:r>
            <a:r>
              <a:rPr b="0" lang="en-US" sz="4000" spc="-1" strike="noStrike">
                <a:solidFill>
                  <a:srgbClr val="ff0000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5880" y="2071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Теория Большого взрыва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Теория: «Бесконечно пульсирующая Вселенная»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Креационизм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Теория «Разбиение сосудов»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Consolas"/>
              </a:rPr>
              <a:t>Теория большого взрыва</a:t>
            </a:r>
            <a:endParaRPr b="0" lang="en-US" sz="48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4400" spc="-1" strike="noStrike">
                <a:solidFill>
                  <a:srgbClr val="df9307"/>
                </a:solidFill>
                <a:latin typeface="Corbel"/>
              </a:rPr>
              <a:t>Вселенная возникла из очень малого объёма(с точку) с гигантскими температурой и плотностью, с тех пор она постоянно расширяется и охлаждается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3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7758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onsolas"/>
              </a:rPr>
              <a:t>Бесконечно пульсирующая Вселенная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57160" y="221436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4400" spc="-1" strike="noStrike">
                <a:solidFill>
                  <a:srgbClr val="92d050"/>
                </a:solidFill>
                <a:latin typeface="Corbel"/>
              </a:rPr>
              <a:t>Мир никогда не возникал и никогда не исчезнет, т. е. рождается и умирает бесконечное количество раз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385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385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385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385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onsolas"/>
              </a:rPr>
              <a:t>Креационизм</a:t>
            </a:r>
            <a:endParaRPr b="0" lang="en-US" sz="44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rbel"/>
              </a:rPr>
              <a:t>   </a:t>
            </a:r>
            <a:r>
              <a:rPr b="0" lang="en-US" sz="4000" spc="-1" strike="noStrike">
                <a:solidFill>
                  <a:srgbClr val="0070c0"/>
                </a:solidFill>
                <a:latin typeface="Corbel"/>
              </a:rPr>
              <a:t>Сотворение Вселенной Богом за 6 дней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orbel"/>
              </a:rPr>
              <a:t>Теория «Разбиение сосудов»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rbel"/>
              </a:rPr>
              <a:t>   </a:t>
            </a:r>
            <a:r>
              <a:rPr b="0" lang="en-US" sz="4000" spc="-1" strike="noStrike">
                <a:solidFill>
                  <a:srgbClr val="0070c0"/>
                </a:solidFill>
                <a:latin typeface="Corbel"/>
              </a:rPr>
              <a:t>Подобна теории Большого взрыва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77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770" fill="hold"/>
                                        <p:tgtEl>
                                          <p:spTgt spid="3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2:50:57Z</dcterms:created>
  <dc:creator>Горчакова</dc:creator>
  <dc:description/>
  <dc:language>en-US</dc:language>
  <cp:lastModifiedBy>07087</cp:lastModifiedBy>
  <dcterms:modified xsi:type="dcterms:W3CDTF">2009-11-25T12:55:31Z</dcterms:modified>
  <cp:revision>26</cp:revision>
  <dc:subject/>
  <dc:title>Теории происхождения Вселенной</dc:title>
</cp:coreProperties>
</file>